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08D-9D61-439C-BF3E-5DB3C2AAB8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A6D-870F-4124-AD32-4206D00184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EF8-4F4D-4CD8-8C65-D50E451F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4D9-1D44-4ACD-958A-E6A2298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920-4A2A-4E82-AA61-27528143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C5F-423F-42AF-8587-11E42E5A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E52-83D1-41FD-BF44-FBAB693B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FF2-4198-42F6-ADFD-A3B6729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5A0-C678-4458-AD50-1A82F40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E2F-CA4F-40E4-99FF-81FB776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264-0D9B-45DB-9864-DE2B021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833-4024-4344-BAA8-608C9E6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76A-8606-49E0-99E4-653756F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CD8-380C-45D1-ABC3-9C6200A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CF8F-FECD-426E-B056-57D80A83E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71640" y="620640"/>
            <a:ext cx="727236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职称申报评审之科研部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组合 68"/>
          <p:cNvGrpSpPr/>
          <p:nvPr/>
        </p:nvGrpSpPr>
        <p:grpSpPr>
          <a:xfrm>
            <a:off x="468360" y="3141720"/>
            <a:ext cx="2519280" cy="2232000"/>
            <a:chOff x="468360" y="3141720"/>
            <a:chExt cx="2519280" cy="2232000"/>
          </a:xfrm>
        </p:grpSpPr>
        <p:grpSp>
          <p:nvGrpSpPr>
            <p:cNvPr id="51" name="组合 31"/>
            <p:cNvGrpSpPr/>
            <p:nvPr/>
          </p:nvGrpSpPr>
          <p:grpSpPr>
            <a:xfrm>
              <a:off x="468360" y="3141720"/>
              <a:ext cx="2519280" cy="2232000"/>
              <a:chOff x="468360" y="3141720"/>
              <a:chExt cx="2519280" cy="2232000"/>
            </a:xfrm>
          </p:grpSpPr>
          <p:grpSp>
            <p:nvGrpSpPr>
              <p:cNvPr id="52" name="Oval 93"/>
              <p:cNvGrpSpPr/>
              <p:nvPr/>
            </p:nvGrpSpPr>
            <p:grpSpPr>
              <a:xfrm>
                <a:off x="468360" y="3141720"/>
                <a:ext cx="2519280" cy="2232000"/>
                <a:chOff x="468360" y="3141720"/>
                <a:chExt cx="2519280" cy="2232000"/>
              </a:xfrm>
            </p:grpSpPr>
            <p:pic>
              <p:nvPicPr>
                <p:cNvPr id="53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8360" y="3141720"/>
                  <a:ext cx="2519280" cy="223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" name=""/>
                <p:cNvSpPr/>
                <p:nvPr/>
              </p:nvSpPr>
              <p:spPr>
                <a:xfrm>
                  <a:off x="881640" y="3490920"/>
                  <a:ext cx="1696320" cy="14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Oval 94"/>
              <p:cNvGrpSpPr/>
              <p:nvPr/>
            </p:nvGrpSpPr>
            <p:grpSpPr>
              <a:xfrm>
                <a:off x="561240" y="3210480"/>
                <a:ext cx="2188440" cy="1939680"/>
                <a:chOff x="561240" y="3210480"/>
                <a:chExt cx="2188440" cy="1939680"/>
              </a:xfrm>
            </p:grpSpPr>
            <p:pic>
              <p:nvPicPr>
                <p:cNvPr id="56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1240" y="3210480"/>
                  <a:ext cx="2188440" cy="19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>
                  <a:off x="929160" y="3517920"/>
                  <a:ext cx="146196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Text Box 18"/>
            <p:cNvSpPr/>
            <p:nvPr/>
          </p:nvSpPr>
          <p:spPr>
            <a:xfrm>
              <a:off x="593640" y="3721320"/>
              <a:ext cx="200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、概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组合 68"/>
          <p:cNvGrpSpPr/>
          <p:nvPr/>
        </p:nvGrpSpPr>
        <p:grpSpPr>
          <a:xfrm>
            <a:off x="3348000" y="3068640"/>
            <a:ext cx="2881440" cy="2305080"/>
            <a:chOff x="3348000" y="3068640"/>
            <a:chExt cx="2881440" cy="2305080"/>
          </a:xfrm>
        </p:grpSpPr>
        <p:grpSp>
          <p:nvGrpSpPr>
            <p:cNvPr id="60" name="组合 31"/>
            <p:cNvGrpSpPr/>
            <p:nvPr/>
          </p:nvGrpSpPr>
          <p:grpSpPr>
            <a:xfrm>
              <a:off x="3348000" y="3068640"/>
              <a:ext cx="2881440" cy="2305080"/>
              <a:chOff x="3348000" y="3068640"/>
              <a:chExt cx="2881440" cy="2305080"/>
            </a:xfrm>
          </p:grpSpPr>
          <p:grpSp>
            <p:nvGrpSpPr>
              <p:cNvPr id="61" name="Oval 93"/>
              <p:cNvGrpSpPr/>
              <p:nvPr/>
            </p:nvGrpSpPr>
            <p:grpSpPr>
              <a:xfrm>
                <a:off x="3482640" y="3068640"/>
                <a:ext cx="2665800" cy="2305080"/>
                <a:chOff x="3482640" y="3068640"/>
                <a:chExt cx="2665800" cy="2305080"/>
              </a:xfrm>
            </p:grpSpPr>
            <p:pic>
              <p:nvPicPr>
                <p:cNvPr id="62" name="Oval 9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82640" y="3068640"/>
                  <a:ext cx="2665800" cy="230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3916440" y="3429720"/>
                  <a:ext cx="1803600" cy="15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Oval 94"/>
              <p:cNvGrpSpPr/>
              <p:nvPr/>
            </p:nvGrpSpPr>
            <p:grpSpPr>
              <a:xfrm>
                <a:off x="3348000" y="3206520"/>
                <a:ext cx="2881440" cy="1931400"/>
                <a:chOff x="3348000" y="3206520"/>
                <a:chExt cx="2881440" cy="1931400"/>
              </a:xfrm>
            </p:grpSpPr>
            <p:pic>
              <p:nvPicPr>
                <p:cNvPr id="65" name="Oval 9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48000" y="3206520"/>
                  <a:ext cx="2881440" cy="193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>
                  <a:off x="4010760" y="3511440"/>
                  <a:ext cx="1553760" cy="12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二、厅局级以上项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申报渠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" name="Text Box 18"/>
            <p:cNvSpPr/>
            <p:nvPr/>
          </p:nvSpPr>
          <p:spPr>
            <a:xfrm>
              <a:off x="3490920" y="3668760"/>
              <a:ext cx="2291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组合 68"/>
          <p:cNvGrpSpPr/>
          <p:nvPr/>
        </p:nvGrpSpPr>
        <p:grpSpPr>
          <a:xfrm>
            <a:off x="6300720" y="3141720"/>
            <a:ext cx="2664000" cy="2063520"/>
            <a:chOff x="6300720" y="3141720"/>
            <a:chExt cx="2664000" cy="2063520"/>
          </a:xfrm>
        </p:grpSpPr>
        <p:grpSp>
          <p:nvGrpSpPr>
            <p:cNvPr id="69" name="组合 31"/>
            <p:cNvGrpSpPr/>
            <p:nvPr/>
          </p:nvGrpSpPr>
          <p:grpSpPr>
            <a:xfrm>
              <a:off x="6300720" y="3141720"/>
              <a:ext cx="2664000" cy="2063520"/>
              <a:chOff x="6300720" y="3141720"/>
              <a:chExt cx="2664000" cy="2063520"/>
            </a:xfrm>
          </p:grpSpPr>
          <p:grpSp>
            <p:nvGrpSpPr>
              <p:cNvPr id="70" name="Oval 93"/>
              <p:cNvGrpSpPr/>
              <p:nvPr/>
            </p:nvGrpSpPr>
            <p:grpSpPr>
              <a:xfrm>
                <a:off x="6300720" y="3141720"/>
                <a:ext cx="2664000" cy="2063520"/>
                <a:chOff x="6300720" y="3141720"/>
                <a:chExt cx="2664000" cy="2063520"/>
              </a:xfrm>
            </p:grpSpPr>
            <p:pic>
              <p:nvPicPr>
                <p:cNvPr id="71" name="Oval 9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00720" y="3141720"/>
                  <a:ext cx="2664000" cy="206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"/>
                <p:cNvSpPr/>
                <p:nvPr/>
              </p:nvSpPr>
              <p:spPr>
                <a:xfrm>
                  <a:off x="6738840" y="3466440"/>
                  <a:ext cx="179388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Oval 94"/>
              <p:cNvGrpSpPr/>
              <p:nvPr/>
            </p:nvGrpSpPr>
            <p:grpSpPr>
              <a:xfrm>
                <a:off x="6399360" y="3204360"/>
                <a:ext cx="2223000" cy="1794960"/>
                <a:chOff x="6399360" y="3204360"/>
                <a:chExt cx="2223000" cy="1794960"/>
              </a:xfrm>
            </p:grpSpPr>
            <p:pic>
              <p:nvPicPr>
                <p:cNvPr id="74" name="Oval 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99360" y="3204360"/>
                  <a:ext cx="2223000" cy="179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>
                  <a:off x="6771960" y="3490920"/>
                  <a:ext cx="1482840" cy="11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" name="Text Box 18"/>
            <p:cNvSpPr/>
            <p:nvPr/>
          </p:nvSpPr>
          <p:spPr>
            <a:xfrm>
              <a:off x="6427440" y="3679920"/>
              <a:ext cx="203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三、与现行科研文件不同之处解释及处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844640"/>
            <a:ext cx="7988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权威期刊和核心期刊的认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职称评审文件中有明确规定的严格以该文件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文前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3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的核心期刊认定以学校指定的核心期刊为准，且与几大版本同步更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00000" y="333360"/>
            <a:ext cx="777564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职改办新文件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13[119]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号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组合 68"/>
          <p:cNvGrpSpPr/>
          <p:nvPr/>
        </p:nvGrpSpPr>
        <p:grpSpPr>
          <a:xfrm>
            <a:off x="1042920" y="2492280"/>
            <a:ext cx="3313080" cy="1441440"/>
            <a:chOff x="1042920" y="2492280"/>
            <a:chExt cx="3313080" cy="1441440"/>
          </a:xfrm>
        </p:grpSpPr>
        <p:grpSp>
          <p:nvGrpSpPr>
            <p:cNvPr id="185" name="组合 31"/>
            <p:cNvGrpSpPr/>
            <p:nvPr/>
          </p:nvGrpSpPr>
          <p:grpSpPr>
            <a:xfrm>
              <a:off x="1042920" y="2492280"/>
              <a:ext cx="3313080" cy="1441440"/>
              <a:chOff x="1042920" y="2492280"/>
              <a:chExt cx="3313080" cy="1441440"/>
            </a:xfrm>
          </p:grpSpPr>
          <p:grpSp>
            <p:nvGrpSpPr>
              <p:cNvPr id="186" name="Oval 93"/>
              <p:cNvGrpSpPr/>
              <p:nvPr/>
            </p:nvGrpSpPr>
            <p:grpSpPr>
              <a:xfrm>
                <a:off x="1042920" y="2492280"/>
                <a:ext cx="2838240" cy="1441440"/>
                <a:chOff x="1042920" y="2492280"/>
                <a:chExt cx="2838240" cy="1441440"/>
              </a:xfrm>
            </p:grpSpPr>
            <p:pic>
              <p:nvPicPr>
                <p:cNvPr id="187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42920" y="2492280"/>
                  <a:ext cx="283824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>
                  <a:off x="1505520" y="2724480"/>
                  <a:ext cx="191700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Oval 94"/>
              <p:cNvGrpSpPr/>
              <p:nvPr/>
            </p:nvGrpSpPr>
            <p:grpSpPr>
              <a:xfrm>
                <a:off x="1335960" y="2559240"/>
                <a:ext cx="3020040" cy="1257120"/>
                <a:chOff x="1335960" y="2559240"/>
                <a:chExt cx="3020040" cy="1257120"/>
              </a:xfrm>
            </p:grpSpPr>
            <p:pic>
              <p:nvPicPr>
                <p:cNvPr id="190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35960" y="2559240"/>
                  <a:ext cx="3020040" cy="125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1824120" y="2763360"/>
                  <a:ext cx="2046600" cy="80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Text Box 18"/>
            <p:cNvSpPr/>
            <p:nvPr/>
          </p:nvSpPr>
          <p:spPr>
            <a:xfrm>
              <a:off x="2014560" y="2564280"/>
              <a:ext cx="18774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矩形 10"/>
          <p:cNvSpPr/>
          <p:nvPr/>
        </p:nvSpPr>
        <p:spPr>
          <a:xfrm>
            <a:off x="1116000" y="2637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外 权威刊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68"/>
          <p:cNvGrpSpPr/>
          <p:nvPr/>
        </p:nvGrpSpPr>
        <p:grpSpPr>
          <a:xfrm>
            <a:off x="4932360" y="2492280"/>
            <a:ext cx="3882960" cy="1441440"/>
            <a:chOff x="4932360" y="2492280"/>
            <a:chExt cx="3882960" cy="1441440"/>
          </a:xfrm>
        </p:grpSpPr>
        <p:grpSp>
          <p:nvGrpSpPr>
            <p:cNvPr id="195" name="组合 31"/>
            <p:cNvGrpSpPr/>
            <p:nvPr/>
          </p:nvGrpSpPr>
          <p:grpSpPr>
            <a:xfrm>
              <a:off x="4932360" y="2492280"/>
              <a:ext cx="3456720" cy="1441440"/>
              <a:chOff x="4932360" y="2492280"/>
              <a:chExt cx="3456720" cy="1441440"/>
            </a:xfrm>
          </p:grpSpPr>
          <p:grpSp>
            <p:nvGrpSpPr>
              <p:cNvPr id="196" name="Oval 93"/>
              <p:cNvGrpSpPr/>
              <p:nvPr/>
            </p:nvGrpSpPr>
            <p:grpSpPr>
              <a:xfrm>
                <a:off x="4932360" y="2492280"/>
                <a:ext cx="3251160" cy="1441440"/>
                <a:chOff x="4932360" y="2492280"/>
                <a:chExt cx="3251160" cy="1441440"/>
              </a:xfrm>
            </p:grpSpPr>
            <p:pic>
              <p:nvPicPr>
                <p:cNvPr id="197" name="Oval 9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32360" y="2492280"/>
                  <a:ext cx="325116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5455080" y="2724480"/>
                  <a:ext cx="220968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Oval 94"/>
              <p:cNvGrpSpPr/>
              <p:nvPr/>
            </p:nvGrpSpPr>
            <p:grpSpPr>
              <a:xfrm>
                <a:off x="4932360" y="2559240"/>
                <a:ext cx="3456720" cy="1257120"/>
                <a:chOff x="4932360" y="2559240"/>
                <a:chExt cx="3456720" cy="1257120"/>
              </a:xfrm>
            </p:grpSpPr>
            <p:pic>
              <p:nvPicPr>
                <p:cNvPr id="200" name="Oval 9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360" y="2559240"/>
                  <a:ext cx="3456720" cy="125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5485320" y="2763360"/>
                  <a:ext cx="2356920" cy="80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国内核心期刊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北大版、中国科学引文数据库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Text Box 18"/>
            <p:cNvSpPr/>
            <p:nvPr/>
          </p:nvSpPr>
          <p:spPr>
            <a:xfrm>
              <a:off x="5877000" y="2564280"/>
              <a:ext cx="2938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概   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1197000"/>
            <a:ext cx="727236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一）省级科研项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64"/>
          <p:cNvSpPr/>
          <p:nvPr/>
        </p:nvSpPr>
        <p:spPr>
          <a:xfrm>
            <a:off x="468360" y="2997360"/>
            <a:ext cx="2448000" cy="1657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自然科学主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门下达的科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4"/>
          <p:cNvSpPr/>
          <p:nvPr/>
        </p:nvSpPr>
        <p:spPr>
          <a:xfrm>
            <a:off x="3348000" y="4365720"/>
            <a:ext cx="2448000" cy="1657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社会科学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部门下达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科研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64"/>
          <p:cNvSpPr/>
          <p:nvPr/>
        </p:nvSpPr>
        <p:spPr>
          <a:xfrm>
            <a:off x="6227640" y="3213000"/>
            <a:ext cx="2448000" cy="1657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教育主管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达的教育教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革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116000" y="333360"/>
            <a:ext cx="727236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二）厅局级科研项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6800" y="2809800"/>
            <a:ext cx="2317320" cy="188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北省教育厅下达的除教改以外的科研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64"/>
          <p:cNvSpPr/>
          <p:nvPr/>
        </p:nvSpPr>
        <p:spPr>
          <a:xfrm>
            <a:off x="3276720" y="2781360"/>
            <a:ext cx="2520720" cy="165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武汉市科技局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64"/>
          <p:cNvSpPr/>
          <p:nvPr/>
        </p:nvSpPr>
        <p:spPr>
          <a:xfrm>
            <a:off x="6227640" y="2637000"/>
            <a:ext cx="2521080" cy="2089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武汉市社科基金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组合 68"/>
          <p:cNvGrpSpPr/>
          <p:nvPr/>
        </p:nvGrpSpPr>
        <p:grpSpPr>
          <a:xfrm>
            <a:off x="2627280" y="5013360"/>
            <a:ext cx="4321080" cy="1441440"/>
            <a:chOff x="2627280" y="5013360"/>
            <a:chExt cx="4321080" cy="1441440"/>
          </a:xfrm>
        </p:grpSpPr>
        <p:grpSp>
          <p:nvGrpSpPr>
            <p:cNvPr id="89" name="组合 31"/>
            <p:cNvGrpSpPr/>
            <p:nvPr/>
          </p:nvGrpSpPr>
          <p:grpSpPr>
            <a:xfrm>
              <a:off x="2627280" y="5013360"/>
              <a:ext cx="4321080" cy="1441440"/>
              <a:chOff x="2627280" y="5013360"/>
              <a:chExt cx="4321080" cy="1441440"/>
            </a:xfrm>
          </p:grpSpPr>
          <p:grpSp>
            <p:nvGrpSpPr>
              <p:cNvPr id="90" name="Oval 93"/>
              <p:cNvGrpSpPr/>
              <p:nvPr/>
            </p:nvGrpSpPr>
            <p:grpSpPr>
              <a:xfrm>
                <a:off x="2627280" y="5013360"/>
                <a:ext cx="4321080" cy="1441440"/>
                <a:chOff x="2627280" y="5013360"/>
                <a:chExt cx="4321080" cy="1441440"/>
              </a:xfrm>
            </p:grpSpPr>
            <p:pic>
              <p:nvPicPr>
                <p:cNvPr id="91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5013360"/>
                  <a:ext cx="432108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3306960" y="5247000"/>
                  <a:ext cx="296640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Oval 94"/>
              <p:cNvGrpSpPr/>
              <p:nvPr/>
            </p:nvGrpSpPr>
            <p:grpSpPr>
              <a:xfrm>
                <a:off x="2733480" y="5057640"/>
                <a:ext cx="3593160" cy="1257840"/>
                <a:chOff x="2733480" y="5057640"/>
                <a:chExt cx="3593160" cy="1257840"/>
              </a:xfrm>
            </p:grpSpPr>
            <p:pic>
              <p:nvPicPr>
                <p:cNvPr id="94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33480" y="5057640"/>
                  <a:ext cx="359316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3308760" y="5263560"/>
                  <a:ext cx="24501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Text Box 18"/>
            <p:cNvSpPr/>
            <p:nvPr/>
          </p:nvSpPr>
          <p:spPr>
            <a:xfrm>
              <a:off x="3419280" y="5013360"/>
              <a:ext cx="2226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校科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2011]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号纵向项目规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40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指各类企事业单位或民间组织和个人委托我校研究的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为主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研项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没有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科研并重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持完成厅局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研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求主持完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省部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研项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横向如何升级为纵向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积极申报教育部、教育厅项目，自筹经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42920" y="333360"/>
            <a:ext cx="727236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三）横向科研课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4"/>
          <p:cNvSpPr/>
          <p:nvPr/>
        </p:nvSpPr>
        <p:spPr>
          <a:xfrm>
            <a:off x="4572000" y="2492280"/>
            <a:ext cx="3816360" cy="9367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服务于推广型有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0"/>
            <a:ext cx="727236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四）校级科研项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4"/>
          <p:cNvSpPr/>
          <p:nvPr/>
        </p:nvSpPr>
        <p:spPr>
          <a:xfrm>
            <a:off x="3348000" y="4149720"/>
            <a:ext cx="2448000" cy="1657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校科研基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组合 68"/>
          <p:cNvGrpSpPr/>
          <p:nvPr/>
        </p:nvGrpSpPr>
        <p:grpSpPr>
          <a:xfrm>
            <a:off x="2050920" y="1628640"/>
            <a:ext cx="5113440" cy="2305080"/>
            <a:chOff x="2050920" y="1628640"/>
            <a:chExt cx="5113440" cy="2305080"/>
          </a:xfrm>
        </p:grpSpPr>
        <p:grpSp>
          <p:nvGrpSpPr>
            <p:cNvPr id="106" name="组合 31"/>
            <p:cNvGrpSpPr/>
            <p:nvPr/>
          </p:nvGrpSpPr>
          <p:grpSpPr>
            <a:xfrm>
              <a:off x="2050920" y="1628640"/>
              <a:ext cx="5113440" cy="2305080"/>
              <a:chOff x="2050920" y="1628640"/>
              <a:chExt cx="5113440" cy="2305080"/>
            </a:xfrm>
          </p:grpSpPr>
          <p:grpSp>
            <p:nvGrpSpPr>
              <p:cNvPr id="107" name="Oval 93"/>
              <p:cNvGrpSpPr/>
              <p:nvPr/>
            </p:nvGrpSpPr>
            <p:grpSpPr>
              <a:xfrm>
                <a:off x="2050920" y="1628640"/>
                <a:ext cx="5113440" cy="2305080"/>
                <a:chOff x="2050920" y="1628640"/>
                <a:chExt cx="5113440" cy="2305080"/>
              </a:xfrm>
            </p:grpSpPr>
            <p:pic>
              <p:nvPicPr>
                <p:cNvPr id="108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50920" y="1628640"/>
                  <a:ext cx="5113440" cy="230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>
                  <a:off x="2844720" y="1989000"/>
                  <a:ext cx="3530160" cy="154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Oval 94"/>
              <p:cNvGrpSpPr/>
              <p:nvPr/>
            </p:nvGrpSpPr>
            <p:grpSpPr>
              <a:xfrm>
                <a:off x="2247120" y="1703520"/>
                <a:ext cx="4429080" cy="2005560"/>
                <a:chOff x="2247120" y="1703520"/>
                <a:chExt cx="4429080" cy="2005560"/>
              </a:xfrm>
            </p:grpSpPr>
            <p:pic>
              <p:nvPicPr>
                <p:cNvPr id="111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47120" y="1703520"/>
                  <a:ext cx="4429080" cy="200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>
                  <a:off x="2943720" y="2016720"/>
                  <a:ext cx="3042000" cy="13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" name="Text Box 18"/>
            <p:cNvSpPr/>
            <p:nvPr/>
          </p:nvSpPr>
          <p:spPr>
            <a:xfrm>
              <a:off x="2305440" y="2226960"/>
              <a:ext cx="406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级职称有要求，要求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参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完成校级科研项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844640"/>
            <a:ext cx="7632720" cy="13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厅局级以上科研项目申报渠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组合 68"/>
          <p:cNvGrpSpPr/>
          <p:nvPr/>
        </p:nvGrpSpPr>
        <p:grpSpPr>
          <a:xfrm>
            <a:off x="2340000" y="3860640"/>
            <a:ext cx="4319640" cy="1441440"/>
            <a:chOff x="2340000" y="3860640"/>
            <a:chExt cx="4319640" cy="1441440"/>
          </a:xfrm>
        </p:grpSpPr>
        <p:grpSp>
          <p:nvGrpSpPr>
            <p:cNvPr id="117" name="组合 31"/>
            <p:cNvGrpSpPr/>
            <p:nvPr/>
          </p:nvGrpSpPr>
          <p:grpSpPr>
            <a:xfrm>
              <a:off x="2340000" y="3860640"/>
              <a:ext cx="4319640" cy="1441440"/>
              <a:chOff x="2340000" y="3860640"/>
              <a:chExt cx="4319640" cy="1441440"/>
            </a:xfrm>
          </p:grpSpPr>
          <p:grpSp>
            <p:nvGrpSpPr>
              <p:cNvPr id="118" name="Oval 93"/>
              <p:cNvGrpSpPr/>
              <p:nvPr/>
            </p:nvGrpSpPr>
            <p:grpSpPr>
              <a:xfrm>
                <a:off x="2340000" y="3860640"/>
                <a:ext cx="4319640" cy="1441440"/>
                <a:chOff x="2340000" y="3860640"/>
                <a:chExt cx="4319640" cy="1441440"/>
              </a:xfrm>
            </p:grpSpPr>
            <p:pic>
              <p:nvPicPr>
                <p:cNvPr id="119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0000" y="3860640"/>
                  <a:ext cx="431964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"/>
                <p:cNvSpPr/>
                <p:nvPr/>
              </p:nvSpPr>
              <p:spPr>
                <a:xfrm>
                  <a:off x="3018240" y="4094280"/>
                  <a:ext cx="296568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Oval 94"/>
              <p:cNvGrpSpPr/>
              <p:nvPr/>
            </p:nvGrpSpPr>
            <p:grpSpPr>
              <a:xfrm>
                <a:off x="2688840" y="3927240"/>
                <a:ext cx="3585960" cy="1257840"/>
                <a:chOff x="2688840" y="3927240"/>
                <a:chExt cx="3585960" cy="1257840"/>
              </a:xfrm>
            </p:grpSpPr>
            <p:pic>
              <p:nvPicPr>
                <p:cNvPr id="122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3927240"/>
                  <a:ext cx="358596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>
                  <a:off x="3260160" y="4133160"/>
                  <a:ext cx="244908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Text Box 18"/>
            <p:cNvSpPr/>
            <p:nvPr/>
          </p:nvSpPr>
          <p:spPr>
            <a:xfrm>
              <a:off x="3492000" y="3932640"/>
              <a:ext cx="222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见内网 “科研工作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95280" y="692280"/>
          <a:ext cx="8353440" cy="5761080"/>
        </p:xfrm>
        <a:graphic>
          <a:graphicData uri="http://schemas.openxmlformats.org/drawingml/2006/table">
            <a:tbl>
              <a:tblPr/>
              <a:tblGrid>
                <a:gridCol w="560520"/>
                <a:gridCol w="1673280"/>
                <a:gridCol w="1671480"/>
                <a:gridCol w="849240"/>
                <a:gridCol w="860400"/>
                <a:gridCol w="1042920"/>
                <a:gridCol w="695520"/>
                <a:gridCol w="1000080"/>
              </a:tblGrid>
              <a:tr h="9032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目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目来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起始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截止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立项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省教育厅人文社科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省教育厅思政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次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获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省教育厅科研计划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省教育厅科技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次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科、少数社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首次开放，限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武汉市科技供需对接计划和重点自主创新产品计划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武汉市科技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获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武汉市社会科学基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武汉市委宣传部理论处（社科办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上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申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，待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湖北省自科基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湖北省科技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上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份左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获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矩形 4"/>
          <p:cNvSpPr/>
          <p:nvPr/>
        </p:nvSpPr>
        <p:spPr>
          <a:xfrm>
            <a:off x="1476360" y="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纵向科研项目申报日程表（仅供参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95280" y="765000"/>
          <a:ext cx="8353440" cy="5338800"/>
        </p:xfrm>
        <a:graphic>
          <a:graphicData uri="http://schemas.openxmlformats.org/drawingml/2006/table">
            <a:tbl>
              <a:tblPr/>
              <a:tblGrid>
                <a:gridCol w="647640"/>
                <a:gridCol w="1586160"/>
                <a:gridCol w="1671480"/>
                <a:gridCol w="849240"/>
                <a:gridCol w="860400"/>
                <a:gridCol w="1042920"/>
                <a:gridCol w="695520"/>
                <a:gridCol w="1000080"/>
              </a:tblGrid>
              <a:tr h="84636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目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目来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起始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截止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立项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湖北省社科基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省委宣传部理论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获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教育部人文社科一般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教育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正在申报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广电总局社科研究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广电总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获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家社科基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全国哲学社会科学规划办公室（教育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上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上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社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家自科基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家自科基金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下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中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64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校关于核心期刊的认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011]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11280" y="404640"/>
            <a:ext cx="7777080" cy="1395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三、与现行科研文件不同之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2627280" y="2997360"/>
            <a:ext cx="3816360" cy="1441440"/>
            <a:chOff x="2627280" y="2997360"/>
            <a:chExt cx="3816360" cy="1441440"/>
          </a:xfrm>
        </p:grpSpPr>
        <p:grpSp>
          <p:nvGrpSpPr>
            <p:cNvPr id="132" name="组合 31"/>
            <p:cNvGrpSpPr/>
            <p:nvPr/>
          </p:nvGrpSpPr>
          <p:grpSpPr>
            <a:xfrm>
              <a:off x="2627280" y="2997360"/>
              <a:ext cx="3816360" cy="1441440"/>
              <a:chOff x="2627280" y="2997360"/>
              <a:chExt cx="3816360" cy="1441440"/>
            </a:xfrm>
          </p:grpSpPr>
          <p:grpSp>
            <p:nvGrpSpPr>
              <p:cNvPr id="133" name="Oval 93"/>
              <p:cNvGrpSpPr/>
              <p:nvPr/>
            </p:nvGrpSpPr>
            <p:grpSpPr>
              <a:xfrm>
                <a:off x="2627280" y="2997360"/>
                <a:ext cx="3816360" cy="1441440"/>
                <a:chOff x="2627280" y="2997360"/>
                <a:chExt cx="3816360" cy="1441440"/>
              </a:xfrm>
            </p:grpSpPr>
            <p:pic>
              <p:nvPicPr>
                <p:cNvPr id="134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2997360"/>
                  <a:ext cx="381636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3233160" y="3227760"/>
                  <a:ext cx="26114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Oval 94"/>
              <p:cNvGrpSpPr/>
              <p:nvPr/>
            </p:nvGrpSpPr>
            <p:grpSpPr>
              <a:xfrm>
                <a:off x="2934000" y="3058560"/>
                <a:ext cx="3173400" cy="1262880"/>
                <a:chOff x="2934000" y="3058560"/>
                <a:chExt cx="3173400" cy="1262880"/>
              </a:xfrm>
            </p:grpSpPr>
            <p:pic>
              <p:nvPicPr>
                <p:cNvPr id="137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4000" y="3058560"/>
                  <a:ext cx="3173400" cy="126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3446640" y="3266640"/>
                  <a:ext cx="215640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" name="Text Box 18"/>
            <p:cNvSpPr/>
            <p:nvPr/>
          </p:nvSpPr>
          <p:spPr>
            <a:xfrm>
              <a:off x="3645000" y="3069360"/>
              <a:ext cx="19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矩形 10"/>
          <p:cNvSpPr/>
          <p:nvPr/>
        </p:nvSpPr>
        <p:spPr>
          <a:xfrm>
            <a:off x="298764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 心 期 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组合 68"/>
          <p:cNvGrpSpPr/>
          <p:nvPr/>
        </p:nvGrpSpPr>
        <p:grpSpPr>
          <a:xfrm>
            <a:off x="324000" y="3933720"/>
            <a:ext cx="2160360" cy="1440000"/>
            <a:chOff x="324000" y="3933720"/>
            <a:chExt cx="2160360" cy="1440000"/>
          </a:xfrm>
        </p:grpSpPr>
        <p:grpSp>
          <p:nvGrpSpPr>
            <p:cNvPr id="142" name="组合 31"/>
            <p:cNvGrpSpPr/>
            <p:nvPr/>
          </p:nvGrpSpPr>
          <p:grpSpPr>
            <a:xfrm>
              <a:off x="324000" y="3933720"/>
              <a:ext cx="2160360" cy="1440000"/>
              <a:chOff x="324000" y="3933720"/>
              <a:chExt cx="2160360" cy="1440000"/>
            </a:xfrm>
          </p:grpSpPr>
          <p:grpSp>
            <p:nvGrpSpPr>
              <p:cNvPr id="143" name="Oval 93"/>
              <p:cNvGrpSpPr/>
              <p:nvPr/>
            </p:nvGrpSpPr>
            <p:grpSpPr>
              <a:xfrm>
                <a:off x="324000" y="3933720"/>
                <a:ext cx="1647720" cy="1440000"/>
                <a:chOff x="324000" y="3933720"/>
                <a:chExt cx="1647720" cy="1440000"/>
              </a:xfrm>
            </p:grpSpPr>
            <p:pic>
              <p:nvPicPr>
                <p:cNvPr id="144" name="Oval 9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4000" y="3933720"/>
                  <a:ext cx="1647720" cy="144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610920" y="4165920"/>
                  <a:ext cx="1078560" cy="9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Oval 94"/>
              <p:cNvGrpSpPr/>
              <p:nvPr/>
            </p:nvGrpSpPr>
            <p:grpSpPr>
              <a:xfrm>
                <a:off x="514080" y="4000320"/>
                <a:ext cx="1970280" cy="1256760"/>
                <a:chOff x="514080" y="4000320"/>
                <a:chExt cx="1970280" cy="1256760"/>
              </a:xfrm>
            </p:grpSpPr>
            <p:pic>
              <p:nvPicPr>
                <p:cNvPr id="147" name="Oval 9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14080" y="4000320"/>
                  <a:ext cx="1970280" cy="12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846360" y="4205160"/>
                  <a:ext cx="1311480" cy="8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Text Box 18"/>
            <p:cNvSpPr/>
            <p:nvPr/>
          </p:nvSpPr>
          <p:spPr>
            <a:xfrm>
              <a:off x="957600" y="4005360"/>
              <a:ext cx="12243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矩形 16"/>
          <p:cNvSpPr/>
          <p:nvPr/>
        </p:nvSpPr>
        <p:spPr>
          <a:xfrm>
            <a:off x="179280" y="429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外检索刊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68"/>
          <p:cNvGrpSpPr/>
          <p:nvPr/>
        </p:nvGrpSpPr>
        <p:grpSpPr>
          <a:xfrm>
            <a:off x="2050920" y="5157720"/>
            <a:ext cx="2160720" cy="1440000"/>
            <a:chOff x="2050920" y="5157720"/>
            <a:chExt cx="2160720" cy="1440000"/>
          </a:xfrm>
        </p:grpSpPr>
        <p:grpSp>
          <p:nvGrpSpPr>
            <p:cNvPr id="152" name="组合 31"/>
            <p:cNvGrpSpPr/>
            <p:nvPr/>
          </p:nvGrpSpPr>
          <p:grpSpPr>
            <a:xfrm>
              <a:off x="2050920" y="5157720"/>
              <a:ext cx="2160720" cy="1440000"/>
              <a:chOff x="2050920" y="5157720"/>
              <a:chExt cx="2160720" cy="1440000"/>
            </a:xfrm>
          </p:grpSpPr>
          <p:grpSp>
            <p:nvGrpSpPr>
              <p:cNvPr id="153" name="Oval 93"/>
              <p:cNvGrpSpPr/>
              <p:nvPr/>
            </p:nvGrpSpPr>
            <p:grpSpPr>
              <a:xfrm>
                <a:off x="2050920" y="5157720"/>
                <a:ext cx="1642320" cy="1440000"/>
                <a:chOff x="2050920" y="5157720"/>
                <a:chExt cx="1642320" cy="1440000"/>
              </a:xfrm>
            </p:grpSpPr>
            <p:pic>
              <p:nvPicPr>
                <p:cNvPr id="154" name="Oval 9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50920" y="5157720"/>
                  <a:ext cx="1642320" cy="144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2334960" y="5389920"/>
                  <a:ext cx="1078920" cy="9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Oval 94"/>
              <p:cNvGrpSpPr/>
              <p:nvPr/>
            </p:nvGrpSpPr>
            <p:grpSpPr>
              <a:xfrm>
                <a:off x="2235240" y="5224680"/>
                <a:ext cx="1976400" cy="1256040"/>
                <a:chOff x="2235240" y="5224680"/>
                <a:chExt cx="1976400" cy="1256040"/>
              </a:xfrm>
            </p:grpSpPr>
            <p:pic>
              <p:nvPicPr>
                <p:cNvPr id="157" name="Oval 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35240" y="5224680"/>
                  <a:ext cx="1976400" cy="125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2570400" y="5429160"/>
                  <a:ext cx="1311480" cy="8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Text Box 18"/>
            <p:cNvSpPr/>
            <p:nvPr/>
          </p:nvSpPr>
          <p:spPr>
            <a:xfrm>
              <a:off x="2684520" y="5229360"/>
              <a:ext cx="12243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组合 68"/>
          <p:cNvGrpSpPr/>
          <p:nvPr/>
        </p:nvGrpSpPr>
        <p:grpSpPr>
          <a:xfrm>
            <a:off x="4500720" y="5229360"/>
            <a:ext cx="2158920" cy="1441440"/>
            <a:chOff x="4500720" y="5229360"/>
            <a:chExt cx="2158920" cy="1441440"/>
          </a:xfrm>
        </p:grpSpPr>
        <p:grpSp>
          <p:nvGrpSpPr>
            <p:cNvPr id="161" name="组合 31"/>
            <p:cNvGrpSpPr/>
            <p:nvPr/>
          </p:nvGrpSpPr>
          <p:grpSpPr>
            <a:xfrm>
              <a:off x="4500720" y="5229360"/>
              <a:ext cx="2158920" cy="1441440"/>
              <a:chOff x="4500720" y="5229360"/>
              <a:chExt cx="2158920" cy="1441440"/>
            </a:xfrm>
          </p:grpSpPr>
          <p:grpSp>
            <p:nvGrpSpPr>
              <p:cNvPr id="162" name="Oval 93"/>
              <p:cNvGrpSpPr/>
              <p:nvPr/>
            </p:nvGrpSpPr>
            <p:grpSpPr>
              <a:xfrm>
                <a:off x="4500720" y="5229360"/>
                <a:ext cx="1642320" cy="1441440"/>
                <a:chOff x="4500720" y="5229360"/>
                <a:chExt cx="1642320" cy="1441440"/>
              </a:xfrm>
            </p:grpSpPr>
            <p:pic>
              <p:nvPicPr>
                <p:cNvPr id="163" name="Oval 9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00720" y="5229360"/>
                  <a:ext cx="1642320" cy="144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4787640" y="5460840"/>
                  <a:ext cx="10749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Oval 94"/>
              <p:cNvGrpSpPr/>
              <p:nvPr/>
            </p:nvGrpSpPr>
            <p:grpSpPr>
              <a:xfrm>
                <a:off x="4690080" y="5296320"/>
                <a:ext cx="1969560" cy="1257120"/>
                <a:chOff x="4690080" y="5296320"/>
                <a:chExt cx="1969560" cy="1257120"/>
              </a:xfrm>
            </p:grpSpPr>
            <p:pic>
              <p:nvPicPr>
                <p:cNvPr id="166" name="Oval 9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690080" y="5296320"/>
                  <a:ext cx="1969560" cy="125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5022000" y="5499720"/>
                  <a:ext cx="1307160" cy="80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Text Box 18"/>
            <p:cNvSpPr/>
            <p:nvPr/>
          </p:nvSpPr>
          <p:spPr>
            <a:xfrm>
              <a:off x="5133960" y="5301360"/>
              <a:ext cx="12236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组合 68"/>
          <p:cNvGrpSpPr/>
          <p:nvPr/>
        </p:nvGrpSpPr>
        <p:grpSpPr>
          <a:xfrm>
            <a:off x="6372360" y="4149720"/>
            <a:ext cx="2160360" cy="1440000"/>
            <a:chOff x="6372360" y="4149720"/>
            <a:chExt cx="2160360" cy="1440000"/>
          </a:xfrm>
        </p:grpSpPr>
        <p:grpSp>
          <p:nvGrpSpPr>
            <p:cNvPr id="170" name="组合 31"/>
            <p:cNvGrpSpPr/>
            <p:nvPr/>
          </p:nvGrpSpPr>
          <p:grpSpPr>
            <a:xfrm>
              <a:off x="6372360" y="4149720"/>
              <a:ext cx="2160360" cy="1440000"/>
              <a:chOff x="6372360" y="4149720"/>
              <a:chExt cx="2160360" cy="1440000"/>
            </a:xfrm>
          </p:grpSpPr>
          <p:grpSp>
            <p:nvGrpSpPr>
              <p:cNvPr id="171" name="Oval 93"/>
              <p:cNvGrpSpPr/>
              <p:nvPr/>
            </p:nvGrpSpPr>
            <p:grpSpPr>
              <a:xfrm>
                <a:off x="6372360" y="4149720"/>
                <a:ext cx="1643400" cy="1440000"/>
                <a:chOff x="6372360" y="4149720"/>
                <a:chExt cx="1643400" cy="1440000"/>
              </a:xfrm>
            </p:grpSpPr>
            <p:pic>
              <p:nvPicPr>
                <p:cNvPr id="172" name="Oval 9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2360" y="4149720"/>
                  <a:ext cx="1643400" cy="144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6660000" y="4379760"/>
                  <a:ext cx="1075680" cy="9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Oval 94"/>
              <p:cNvGrpSpPr/>
              <p:nvPr/>
            </p:nvGrpSpPr>
            <p:grpSpPr>
              <a:xfrm>
                <a:off x="6561720" y="4210920"/>
                <a:ext cx="1971000" cy="1261440"/>
                <a:chOff x="6561720" y="4210920"/>
                <a:chExt cx="1971000" cy="1261440"/>
              </a:xfrm>
            </p:grpSpPr>
            <p:pic>
              <p:nvPicPr>
                <p:cNvPr id="175" name="Oval 9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61720" y="4210920"/>
                  <a:ext cx="1971000" cy="126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6894360" y="4418640"/>
                  <a:ext cx="1307880" cy="80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Text Box 18"/>
            <p:cNvSpPr/>
            <p:nvPr/>
          </p:nvSpPr>
          <p:spPr>
            <a:xfrm>
              <a:off x="7005960" y="4221360"/>
              <a:ext cx="12243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矩形 33"/>
          <p:cNvSpPr/>
          <p:nvPr/>
        </p:nvSpPr>
        <p:spPr>
          <a:xfrm>
            <a:off x="219564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大核心、南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 34"/>
          <p:cNvSpPr/>
          <p:nvPr/>
        </p:nvSpPr>
        <p:spPr>
          <a:xfrm flipH="1">
            <a:off x="4716360" y="551664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信所科技统计源期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矩形 35"/>
          <p:cNvSpPr/>
          <p:nvPr/>
        </p:nvSpPr>
        <p:spPr>
          <a:xfrm>
            <a:off x="6732720" y="4221000"/>
            <a:ext cx="17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湖北省职改办规定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种权威重要期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3:15:50Z</dcterms:created>
  <dc:creator>JonMMx 2000</dc:creator>
  <dc:description/>
  <dc:language>en-US</dc:language>
  <cp:lastModifiedBy>999宝藏网</cp:lastModifiedBy>
  <dcterms:modified xsi:type="dcterms:W3CDTF">2013-12-26T03:51:23Z</dcterms:modified>
  <cp:revision>132</cp:revision>
  <dc:subject/>
  <dc:title>形式逻辑</dc:title>
</cp:coreProperties>
</file>