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C83-F6F8-44EE-95FA-DCF3FE07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9D4-3798-4F4C-BD96-1444D46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348-EBF5-4FCD-8772-F1823C16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D8A-A823-4A48-8DCB-A2E9542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488E-C36C-47E7-9301-E96171B8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74BE-1784-4A25-9E15-F6D3E42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E74B-A94D-4EB4-A3C5-4E7840B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F8B8-C1C0-40A2-9D5D-3B6F00EA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1CD7-E5F0-4251-ACD4-2FA20FC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8B2-364C-4B30-B9AC-B47359F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7D78-A0B4-40EB-A360-8E11439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67A-8B0A-40C0-A1BB-0637ED2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B640-4D69-4189-B2E1-B9D1D6D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FC3A-D9A4-4B0D-94C9-CF75E45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4EFB-03AA-49BE-825A-E13CF6A1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554A-6A8B-4F43-AEA0-33E9759C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A52-CA6B-4DE0-90A3-7834789C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3E4-B1E5-45DC-8D6D-181C316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EE9-0C9F-4DE4-BCB6-B50CAFB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181-628C-4CC5-A635-0885D38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1D3-02C2-4F1F-8F89-D92D6AD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BD1-62F0-4085-B766-5DD606D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588-1FC2-44DD-8F03-0BF3B30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154-8DA8-44E0-A960-D56D9C7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736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D62-BDC2-4C20-953F-F8C456D60C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3" descr="1"/>
          <p:cNvPicPr/>
          <p:nvPr/>
        </p:nvPicPr>
        <p:blipFill>
          <a:blip r:embed="rId2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71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72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7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84" name="Freeform 8"/>
            <p:cNvSpPr/>
            <p:nvPr/>
          </p:nvSpPr>
          <p:spPr>
            <a:xfrm rot="10800000">
              <a:off x="8077680" y="1789200"/>
              <a:ext cx="72360" cy="2199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 rot="10800000">
              <a:off x="7346880" y="1781640"/>
              <a:ext cx="85680" cy="2512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 rot="10800000">
              <a:off x="8106480" y="1789200"/>
              <a:ext cx="277560" cy="3837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 rot="10800000">
              <a:off x="6162480" y="1789200"/>
              <a:ext cx="272160" cy="3837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 rot="10800000">
              <a:off x="6573960" y="1789200"/>
              <a:ext cx="167400" cy="2401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 rot="10800000">
              <a:off x="6956280" y="1785600"/>
              <a:ext cx="167400" cy="33840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 rot="10800000">
              <a:off x="7794000" y="1778040"/>
              <a:ext cx="312480" cy="64944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 rot="10800000">
              <a:off x="6790680" y="1781640"/>
              <a:ext cx="177120" cy="38052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 rot="10800000">
              <a:off x="8529120" y="1778040"/>
              <a:ext cx="243360" cy="53316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 rot="10800000">
              <a:off x="6678720" y="1787040"/>
              <a:ext cx="129240" cy="462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 rot="10800000">
              <a:off x="8357760" y="1783440"/>
              <a:ext cx="210960" cy="7736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 rot="10800000">
              <a:off x="7634520" y="1778040"/>
              <a:ext cx="190080" cy="41688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 rot="10800000">
              <a:off x="6004800" y="1778040"/>
              <a:ext cx="190080" cy="41688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 rot="10800000">
              <a:off x="7095600" y="1789200"/>
              <a:ext cx="333000" cy="73116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 rot="10800000">
              <a:off x="7457400" y="1787040"/>
              <a:ext cx="184680" cy="67356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 rot="10800000">
              <a:off x="6415920" y="1787040"/>
              <a:ext cx="184320" cy="67356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00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7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2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03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06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9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0DA-06AC-4BC7-9865-73E938FC880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109569"/>
          <p:cNvSpPr/>
          <p:nvPr/>
        </p:nvSpPr>
        <p:spPr>
          <a:xfrm>
            <a:off x="1042920" y="2133720"/>
            <a:ext cx="7201080" cy="20872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矩形 109570"/>
          <p:cNvSpPr/>
          <p:nvPr/>
        </p:nvSpPr>
        <p:spPr>
          <a:xfrm>
            <a:off x="1187280" y="21675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</a:rPr>
              <a:t>2021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</a:rPr>
              <a:t>级学生登记表</a:t>
            </a:r>
            <a:endParaRPr b="0" lang="en-US" sz="6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黑体"/>
              </a:rPr>
              <a:t>填写规范</a:t>
            </a:r>
            <a:endParaRPr b="0" lang="en-US" sz="6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84998"/>
          <p:cNvSpPr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solidFill>
            <a:srgbClr val="ffffff">
              <a:alpha val="90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6" name="文本框 3"/>
          <p:cNvSpPr/>
          <p:nvPr/>
        </p:nvSpPr>
        <p:spPr>
          <a:xfrm>
            <a:off x="324000" y="1268280"/>
            <a:ext cx="8280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本表要以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严肃认真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态度填写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一律用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黑色签字笔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填写，字体要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清楚整齐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籍贯与现在家庭住址必须填写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全称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家庭成员指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直系亲属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父母、兄弟、姐妹等）及其他生活在一起，经济上互相依赖的成员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填写完毕后应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签名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贴上一寸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彩色登记照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此表填写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式两份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一份由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校存档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一份放</a:t>
            </a:r>
            <a:r>
              <a:rPr b="1" lang="zh-CN" sz="3000" spc="-1" strike="noStrike">
                <a:solidFill>
                  <a:srgbClr val="060606"/>
                </a:solidFill>
                <a:latin typeface="仿宋_GB2312"/>
                <a:ea typeface="仿宋_GB2312"/>
              </a:rPr>
              <a:t>入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学生档案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表内所列项目必须全部如实填写，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不得留空白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如有情况不明无法填写时，应写“不清”、“不详”及其原因，如无该项情况，亦写“无”。</a:t>
            </a:r>
            <a:endParaRPr b="0" lang="en-US" sz="3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7" name="矩形 84999"/>
          <p:cNvSpPr/>
          <p:nvPr/>
        </p:nvSpPr>
        <p:spPr>
          <a:xfrm>
            <a:off x="2349360" y="333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0606"/>
                </a:solidFill>
                <a:latin typeface="华文行楷"/>
                <a:ea typeface="华文行楷"/>
              </a:rPr>
              <a:t>学生登记表填写总要求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9" descr="C:\Documents and Settings\Administrator\Application Data\Tencent\Users\393481752\QQ\WinTemp\RichOle\HXGML$_DL5AB58[`E7GO)J5.png"/>
          <p:cNvPicPr/>
          <p:nvPr/>
        </p:nvPicPr>
        <p:blipFill>
          <a:blip r:embed="rId1"/>
          <a:stretch/>
        </p:blipFill>
        <p:spPr>
          <a:xfrm>
            <a:off x="214200" y="1285920"/>
            <a:ext cx="3786480" cy="4638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具体填写办法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组合 98310"/>
          <p:cNvGrpSpPr/>
          <p:nvPr/>
        </p:nvGrpSpPr>
        <p:grpSpPr>
          <a:xfrm>
            <a:off x="3071880" y="2500200"/>
            <a:ext cx="5644440" cy="860040"/>
            <a:chOff x="3071880" y="2500200"/>
            <a:chExt cx="5644440" cy="860040"/>
          </a:xfrm>
        </p:grpSpPr>
        <p:sp>
          <p:nvSpPr>
            <p:cNvPr id="161" name="圆角矩形 98311"/>
            <p:cNvSpPr/>
            <p:nvPr/>
          </p:nvSpPr>
          <p:spPr>
            <a:xfrm>
              <a:off x="4500360" y="2500200"/>
              <a:ext cx="4215960" cy="57636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根据实际填本科</a:t>
              </a:r>
              <a:r>
                <a:rPr b="0" lang="en-US" sz="16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或专科（或“专升本”）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62" name="直接连接符 98312"/>
            <p:cNvSpPr/>
            <p:nvPr/>
          </p:nvSpPr>
          <p:spPr>
            <a:xfrm flipV="1">
              <a:off x="3071880" y="2999880"/>
              <a:ext cx="135000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63" name="组合 98316"/>
          <p:cNvGrpSpPr/>
          <p:nvPr/>
        </p:nvGrpSpPr>
        <p:grpSpPr>
          <a:xfrm>
            <a:off x="2627280" y="3860640"/>
            <a:ext cx="5658840" cy="711000"/>
            <a:chOff x="2627280" y="3860640"/>
            <a:chExt cx="5658840" cy="711000"/>
          </a:xfrm>
        </p:grpSpPr>
        <p:sp>
          <p:nvSpPr>
            <p:cNvPr id="164" name="直接连接符 98317"/>
            <p:cNvSpPr/>
            <p:nvPr/>
          </p:nvSpPr>
          <p:spPr>
            <a:xfrm flipV="1">
              <a:off x="2627280" y="4075920"/>
              <a:ext cx="1794600" cy="1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65" name="圆角矩形 98318"/>
            <p:cNvSpPr/>
            <p:nvPr/>
          </p:nvSpPr>
          <p:spPr>
            <a:xfrm>
              <a:off x="4428000" y="3860640"/>
              <a:ext cx="3858120" cy="71100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各学院、专业班级均应填写规范的</a:t>
              </a:r>
              <a:r>
                <a:rPr b="0" lang="zh-CN" sz="1600" spc="-1" strike="noStrike">
                  <a:solidFill>
                    <a:srgbClr val="ff0000"/>
                  </a:solidFill>
                  <a:latin typeface="黑体"/>
                </a:rPr>
                <a:t>全称</a:t>
              </a:r>
              <a:r>
                <a:rPr b="0" lang="zh-CN" sz="1600" spc="-1" strike="noStrike">
                  <a:solidFill>
                    <a:srgbClr val="060606"/>
                  </a:solidFill>
                  <a:latin typeface="黑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66" name="组合 98331"/>
          <p:cNvGrpSpPr/>
          <p:nvPr/>
        </p:nvGrpSpPr>
        <p:grpSpPr>
          <a:xfrm>
            <a:off x="2987640" y="4429080"/>
            <a:ext cx="4680000" cy="1736640"/>
            <a:chOff x="2987640" y="4429080"/>
            <a:chExt cx="4680000" cy="1736640"/>
          </a:xfrm>
        </p:grpSpPr>
        <p:grpSp>
          <p:nvGrpSpPr>
            <p:cNvPr id="167" name="组合 98330"/>
            <p:cNvGrpSpPr/>
            <p:nvPr/>
          </p:nvGrpSpPr>
          <p:grpSpPr>
            <a:xfrm>
              <a:off x="2987640" y="4429080"/>
              <a:ext cx="4680000" cy="1736640"/>
              <a:chOff x="2987640" y="4429080"/>
              <a:chExt cx="4680000" cy="1736640"/>
            </a:xfrm>
          </p:grpSpPr>
          <p:sp>
            <p:nvSpPr>
              <p:cNvPr id="168" name="直接连接符 98322"/>
              <p:cNvSpPr/>
              <p:nvPr/>
            </p:nvSpPr>
            <p:spPr>
              <a:xfrm flipV="1">
                <a:off x="2987640" y="4429080"/>
                <a:ext cx="1513080" cy="22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69" name="直接连接符 98323"/>
              <p:cNvSpPr/>
              <p:nvPr/>
            </p:nvSpPr>
            <p:spPr>
              <a:xfrm>
                <a:off x="2987640" y="5084640"/>
                <a:ext cx="1368360" cy="43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70" name="直接连接符 98324"/>
              <p:cNvSpPr/>
              <p:nvPr/>
            </p:nvSpPr>
            <p:spPr>
              <a:xfrm>
                <a:off x="3000240" y="5715000"/>
                <a:ext cx="1285920" cy="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71" name="圆角矩形 98328"/>
              <p:cNvSpPr/>
              <p:nvPr/>
            </p:nvSpPr>
            <p:spPr>
              <a:xfrm>
                <a:off x="4643280" y="4941720"/>
                <a:ext cx="3024360" cy="1224000"/>
              </a:xfrm>
              <a:prstGeom prst="roundRect">
                <a:avLst>
                  <a:gd name="adj" fmla="val 16667"/>
                </a:avLst>
              </a:prstGeom>
              <a:solidFill>
                <a:srgbClr val="ffcc99">
                  <a:alpha val="90000"/>
                </a:srgbClr>
              </a:solidFill>
              <a:ln w="28440">
                <a:solidFill>
                  <a:srgbClr val="80cb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72" name="文本框 98329"/>
            <p:cNvSpPr/>
            <p:nvPr/>
          </p:nvSpPr>
          <p:spPr>
            <a:xfrm>
              <a:off x="4859280" y="515772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</a:rPr>
                <a:t>学号、姓名等均据实填写清楚，日期采用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</a:rPr>
                <a:t>公历</a:t>
              </a:r>
              <a:endParaRPr b="0" lang="en-US" sz="1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73" name="文本占位符 98307"/>
          <p:cNvSpPr/>
          <p:nvPr/>
        </p:nvSpPr>
        <p:spPr>
          <a:xfrm>
            <a:off x="-214200" y="1000080"/>
            <a:ext cx="4032000" cy="539928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399280"/>
              <a:gd name="textAreaBottom" fmla="*/ 5202720 h 5399280"/>
            </a:gdLst>
            <a:ahLst/>
            <a:rect l="textAreaLeft" t="textAreaTop" r="textAreaRight" b="textAreaBottom"/>
            <a:pathLst>
              <a:path w="21600" h="28924">
                <a:moveTo>
                  <a:pt x="3600" y="0"/>
                </a:moveTo>
                <a:arcTo wR="3600" hR="3600" stAng="16200000" swAng="-5400000"/>
                <a:lnTo>
                  <a:pt x="0" y="25324"/>
                </a:lnTo>
                <a:arcTo wR="3600" hR="3600" stAng="10800000" swAng="-5400000"/>
                <a:lnTo>
                  <a:pt x="18000" y="28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3" descr=""/>
          <p:cNvPicPr/>
          <p:nvPr/>
        </p:nvPicPr>
        <p:blipFill>
          <a:blip r:embed="rId1"/>
          <a:stretch/>
        </p:blipFill>
        <p:spPr>
          <a:xfrm>
            <a:off x="507960" y="836640"/>
            <a:ext cx="4383000" cy="588168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5" name="文本框 6"/>
          <p:cNvSpPr/>
          <p:nvPr/>
        </p:nvSpPr>
        <p:spPr>
          <a:xfrm>
            <a:off x="1406520" y="1779480"/>
            <a:ext cx="240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籍贯为父辈的出生地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6" name="五角星 12"/>
          <p:cNvSpPr/>
          <p:nvPr/>
        </p:nvSpPr>
        <p:spPr>
          <a:xfrm>
            <a:off x="1328760" y="1844640"/>
            <a:ext cx="144360" cy="144360"/>
          </a:xfrm>
          <a:custGeom>
            <a:avLst/>
            <a:gdLst/>
            <a:ahLst/>
            <a:rect l="l" t="t" r="r" b="b"/>
            <a:pathLst>
              <a:path w="144462" h="144462">
                <a:moveTo>
                  <a:pt x="0" y="55179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79"/>
                </a:lnTo>
                <a:lnTo>
                  <a:pt x="99820" y="89282"/>
                </a:lnTo>
                <a:lnTo>
                  <a:pt x="116872" y="144462"/>
                </a:lnTo>
                <a:lnTo>
                  <a:pt x="72231" y="110358"/>
                </a:lnTo>
                <a:lnTo>
                  <a:pt x="27589" y="144462"/>
                </a:lnTo>
                <a:lnTo>
                  <a:pt x="44641" y="89282"/>
                </a:lnTo>
                <a:close/>
              </a:path>
            </a:pathLst>
          </a:custGeom>
          <a:gradFill rotWithShape="0">
            <a:gsLst>
              <a:gs pos="0">
                <a:srgbClr val="5da714"/>
              </a:gs>
              <a:gs pos="100000">
                <a:srgbClr val="7cdf1a"/>
              </a:gs>
            </a:gsLst>
            <a:lin ang="16200000"/>
          </a:gra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7" name="五角星 14"/>
          <p:cNvSpPr/>
          <p:nvPr/>
        </p:nvSpPr>
        <p:spPr>
          <a:xfrm>
            <a:off x="1643040" y="2428920"/>
            <a:ext cx="144360" cy="144360"/>
          </a:xfrm>
          <a:custGeom>
            <a:avLst/>
            <a:gdLst/>
            <a:ahLst/>
            <a:rect l="l" t="t" r="r" b="b"/>
            <a:pathLst>
              <a:path w="144462" h="144462">
                <a:moveTo>
                  <a:pt x="0" y="55179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79"/>
                </a:lnTo>
                <a:lnTo>
                  <a:pt x="99820" y="89282"/>
                </a:lnTo>
                <a:lnTo>
                  <a:pt x="116872" y="144462"/>
                </a:lnTo>
                <a:lnTo>
                  <a:pt x="72231" y="110358"/>
                </a:lnTo>
                <a:lnTo>
                  <a:pt x="27589" y="144462"/>
                </a:lnTo>
                <a:lnTo>
                  <a:pt x="44641" y="89282"/>
                </a:lnTo>
                <a:close/>
              </a:path>
            </a:pathLst>
          </a:custGeom>
          <a:gradFill rotWithShape="0">
            <a:gsLst>
              <a:gs pos="0">
                <a:srgbClr val="5da714"/>
              </a:gs>
              <a:gs pos="100000">
                <a:srgbClr val="7cdf1a"/>
              </a:gs>
            </a:gsLst>
            <a:lin ang="16200000"/>
          </a:gra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8" name="五角星 15"/>
          <p:cNvSpPr/>
          <p:nvPr/>
        </p:nvSpPr>
        <p:spPr>
          <a:xfrm>
            <a:off x="3697200" y="1844640"/>
            <a:ext cx="144720" cy="144360"/>
          </a:xfrm>
          <a:custGeom>
            <a:avLst/>
            <a:gdLst/>
            <a:ahLst/>
            <a:rect l="l" t="t" r="r" b="b"/>
            <a:pathLst>
              <a:path w="144462" h="144462">
                <a:moveTo>
                  <a:pt x="0" y="55179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79"/>
                </a:lnTo>
                <a:lnTo>
                  <a:pt x="99820" y="89282"/>
                </a:lnTo>
                <a:lnTo>
                  <a:pt x="116872" y="144462"/>
                </a:lnTo>
                <a:lnTo>
                  <a:pt x="72231" y="110358"/>
                </a:lnTo>
                <a:lnTo>
                  <a:pt x="27589" y="144462"/>
                </a:lnTo>
                <a:lnTo>
                  <a:pt x="44641" y="89282"/>
                </a:lnTo>
                <a:close/>
              </a:path>
            </a:pathLst>
          </a:custGeom>
          <a:gradFill rotWithShape="0">
            <a:gsLst>
              <a:gs pos="0">
                <a:srgbClr val="5da714"/>
              </a:gs>
              <a:gs pos="100000">
                <a:srgbClr val="7cdf1a"/>
              </a:gs>
            </a:gsLst>
            <a:lin ang="16200000"/>
          </a:gra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9" name="文本框 17"/>
          <p:cNvSpPr/>
          <p:nvPr/>
        </p:nvSpPr>
        <p:spPr>
          <a:xfrm>
            <a:off x="1785960" y="235728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中（</a:t>
            </a:r>
            <a:r>
              <a:rPr b="1" lang="zh-CN" sz="1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专升本的学生此处填大专</a:t>
            </a: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0" name="五角星 18"/>
          <p:cNvSpPr/>
          <p:nvPr/>
        </p:nvSpPr>
        <p:spPr>
          <a:xfrm>
            <a:off x="1328760" y="2152800"/>
            <a:ext cx="144360" cy="14256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3"/>
                </a:lnTo>
                <a:lnTo>
                  <a:pt x="72231" y="0"/>
                </a:lnTo>
                <a:lnTo>
                  <a:pt x="89282" y="54573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4"/>
                </a:lnTo>
                <a:lnTo>
                  <a:pt x="72231" y="109146"/>
                </a:lnTo>
                <a:lnTo>
                  <a:pt x="27589" y="142874"/>
                </a:lnTo>
                <a:lnTo>
                  <a:pt x="44641" y="88301"/>
                </a:lnTo>
                <a:close/>
              </a:path>
            </a:pathLst>
          </a:custGeom>
          <a:gradFill rotWithShape="0">
            <a:gsLst>
              <a:gs pos="0">
                <a:srgbClr val="5da714"/>
              </a:gs>
              <a:gs pos="100000">
                <a:srgbClr val="7cdf1a"/>
              </a:gs>
            </a:gsLst>
            <a:lin ang="16200000"/>
          </a:gra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1" name="文本框 22"/>
          <p:cNvSpPr/>
          <p:nvPr/>
        </p:nvSpPr>
        <p:spPr>
          <a:xfrm>
            <a:off x="1406520" y="207180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填写详细通讯地址，收信人填较固定的人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1258920" y="1484280"/>
            <a:ext cx="24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据实填写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83" name="组合 86079"/>
          <p:cNvGrpSpPr/>
          <p:nvPr/>
        </p:nvGrpSpPr>
        <p:grpSpPr>
          <a:xfrm>
            <a:off x="3995640" y="1700280"/>
            <a:ext cx="4969080" cy="792000"/>
            <a:chOff x="3995640" y="1700280"/>
            <a:chExt cx="4969080" cy="792000"/>
          </a:xfrm>
        </p:grpSpPr>
        <p:grpSp>
          <p:nvGrpSpPr>
            <p:cNvPr id="184" name="组合 86075"/>
            <p:cNvGrpSpPr/>
            <p:nvPr/>
          </p:nvGrpSpPr>
          <p:grpSpPr>
            <a:xfrm>
              <a:off x="5580000" y="1700280"/>
              <a:ext cx="3384720" cy="792000"/>
              <a:chOff x="5580000" y="1700280"/>
              <a:chExt cx="3384720" cy="792000"/>
            </a:xfrm>
          </p:grpSpPr>
          <p:sp>
            <p:nvSpPr>
              <p:cNvPr id="185" name="圆角矩形 86031"/>
              <p:cNvSpPr/>
              <p:nvPr/>
            </p:nvSpPr>
            <p:spPr>
              <a:xfrm>
                <a:off x="5580000" y="1700280"/>
                <a:ext cx="3384720" cy="792000"/>
              </a:xfrm>
              <a:prstGeom prst="roundRect">
                <a:avLst>
                  <a:gd name="adj" fmla="val 16667"/>
                </a:avLst>
              </a:prstGeom>
              <a:solidFill>
                <a:srgbClr val="ffcc00">
                  <a:alpha val="90000"/>
                </a:srgbClr>
              </a:solidFill>
              <a:ln w="28440">
                <a:solidFill>
                  <a:srgbClr val="80cb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86" name="文本框 23"/>
              <p:cNvSpPr/>
              <p:nvPr/>
            </p:nvSpPr>
            <p:spPr>
              <a:xfrm>
                <a:off x="5759280" y="1773360"/>
                <a:ext cx="320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</a:rPr>
                  <a:t>本人健康状况主要填写有无疾病和体质强弱状况，一般填写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</a:rPr>
                  <a:t>良好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87" name="直接连接符 86051"/>
            <p:cNvSpPr/>
            <p:nvPr/>
          </p:nvSpPr>
          <p:spPr>
            <a:xfrm flipV="1">
              <a:off x="3995640" y="1916280"/>
              <a:ext cx="1513080" cy="1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88" name="组合 86072"/>
          <p:cNvGrpSpPr/>
          <p:nvPr/>
        </p:nvGrpSpPr>
        <p:grpSpPr>
          <a:xfrm>
            <a:off x="4356000" y="3068640"/>
            <a:ext cx="4608720" cy="1512720"/>
            <a:chOff x="4356000" y="3068640"/>
            <a:chExt cx="4608720" cy="1512720"/>
          </a:xfrm>
        </p:grpSpPr>
        <p:sp>
          <p:nvSpPr>
            <p:cNvPr id="189" name="圆角矩形 86042"/>
            <p:cNvSpPr/>
            <p:nvPr/>
          </p:nvSpPr>
          <p:spPr>
            <a:xfrm>
              <a:off x="5940360" y="3068640"/>
              <a:ext cx="3024360" cy="1512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0" name="文本框 86043"/>
            <p:cNvSpPr/>
            <p:nvPr/>
          </p:nvSpPr>
          <p:spPr>
            <a:xfrm>
              <a:off x="6046920" y="3141720"/>
              <a:ext cx="277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党员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需要分别填写入党和入团的情况，</a:t>
              </a:r>
              <a:r>
                <a:rPr b="1" lang="zh-CN" sz="16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团员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需要填写入团的情况，</a:t>
              </a:r>
              <a:r>
                <a:rPr b="1" lang="zh-CN" sz="16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群众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填 写“无”。必须将时间、地点、介绍人等项内容全部填写清楚。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1" name="直接连接符 86052"/>
            <p:cNvSpPr/>
            <p:nvPr/>
          </p:nvSpPr>
          <p:spPr>
            <a:xfrm flipV="1">
              <a:off x="4356000" y="3429000"/>
              <a:ext cx="1513080" cy="1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2" name="直接连接符 86053"/>
            <p:cNvSpPr/>
            <p:nvPr/>
          </p:nvSpPr>
          <p:spPr>
            <a:xfrm flipV="1">
              <a:off x="4427640" y="4292640"/>
              <a:ext cx="1512720" cy="1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93" name="组合 86084"/>
          <p:cNvGrpSpPr/>
          <p:nvPr/>
        </p:nvGrpSpPr>
        <p:grpSpPr>
          <a:xfrm>
            <a:off x="4284720" y="4869000"/>
            <a:ext cx="3672000" cy="504720"/>
            <a:chOff x="4284720" y="4869000"/>
            <a:chExt cx="3672000" cy="504720"/>
          </a:xfrm>
        </p:grpSpPr>
        <p:grpSp>
          <p:nvGrpSpPr>
            <p:cNvPr id="194" name="组合 86073"/>
            <p:cNvGrpSpPr/>
            <p:nvPr/>
          </p:nvGrpSpPr>
          <p:grpSpPr>
            <a:xfrm>
              <a:off x="4284720" y="4869000"/>
              <a:ext cx="3672000" cy="504720"/>
              <a:chOff x="4284720" y="4869000"/>
              <a:chExt cx="3672000" cy="504720"/>
            </a:xfrm>
          </p:grpSpPr>
          <p:sp>
            <p:nvSpPr>
              <p:cNvPr id="195" name="圆角矩形 86049"/>
              <p:cNvSpPr/>
              <p:nvPr/>
            </p:nvSpPr>
            <p:spPr>
              <a:xfrm>
                <a:off x="5796000" y="4869000"/>
                <a:ext cx="21607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cc00">
                  <a:alpha val="90000"/>
                </a:srgbClr>
              </a:solidFill>
              <a:ln w="28440">
                <a:solidFill>
                  <a:srgbClr val="80cb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96" name="直接连接符 86054"/>
              <p:cNvSpPr/>
              <p:nvPr/>
            </p:nvSpPr>
            <p:spPr>
              <a:xfrm flipV="1">
                <a:off x="4284720" y="5157360"/>
                <a:ext cx="1512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97" name="文本框 86050"/>
            <p:cNvSpPr/>
            <p:nvPr/>
          </p:nvSpPr>
          <p:spPr>
            <a:xfrm>
              <a:off x="5796000" y="494172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中学期间任职情况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98" name="组合 86099"/>
          <p:cNvGrpSpPr/>
          <p:nvPr/>
        </p:nvGrpSpPr>
        <p:grpSpPr>
          <a:xfrm>
            <a:off x="4211640" y="5661000"/>
            <a:ext cx="4716360" cy="936720"/>
            <a:chOff x="4211640" y="5661000"/>
            <a:chExt cx="4716360" cy="936720"/>
          </a:xfrm>
        </p:grpSpPr>
        <p:sp>
          <p:nvSpPr>
            <p:cNvPr id="199" name="圆角矩形 86045"/>
            <p:cNvSpPr/>
            <p:nvPr/>
          </p:nvSpPr>
          <p:spPr>
            <a:xfrm>
              <a:off x="5724360" y="5661000"/>
              <a:ext cx="3203640" cy="936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200" name="组合 86074"/>
            <p:cNvGrpSpPr/>
            <p:nvPr/>
          </p:nvGrpSpPr>
          <p:grpSpPr>
            <a:xfrm>
              <a:off x="4211640" y="5734080"/>
              <a:ext cx="4608360" cy="580680"/>
              <a:chOff x="4211640" y="5734080"/>
              <a:chExt cx="4608360" cy="580680"/>
            </a:xfrm>
          </p:grpSpPr>
          <p:sp>
            <p:nvSpPr>
              <p:cNvPr id="201" name="文本框 86047"/>
              <p:cNvSpPr/>
              <p:nvPr/>
            </p:nvSpPr>
            <p:spPr>
              <a:xfrm>
                <a:off x="5940360" y="5734080"/>
                <a:ext cx="2879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撰写中学期间所获得的奖惩情况，最好按照时间先后顺序填写，条理清楚</a:t>
                </a: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02" name="直接连接符 86055"/>
              <p:cNvSpPr/>
              <p:nvPr/>
            </p:nvSpPr>
            <p:spPr>
              <a:xfrm flipV="1">
                <a:off x="4211640" y="6093000"/>
                <a:ext cx="15127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grpSp>
        <p:nvGrpSpPr>
          <p:cNvPr id="203" name="组合 86058"/>
          <p:cNvGrpSpPr/>
          <p:nvPr/>
        </p:nvGrpSpPr>
        <p:grpSpPr>
          <a:xfrm>
            <a:off x="3492360" y="404640"/>
            <a:ext cx="2808000" cy="576000"/>
            <a:chOff x="3492360" y="404640"/>
            <a:chExt cx="2808000" cy="576000"/>
          </a:xfrm>
        </p:grpSpPr>
        <p:sp>
          <p:nvSpPr>
            <p:cNvPr id="204" name="圆角矩形 86034"/>
            <p:cNvSpPr/>
            <p:nvPr/>
          </p:nvSpPr>
          <p:spPr>
            <a:xfrm>
              <a:off x="4357440" y="404640"/>
              <a:ext cx="1942920" cy="46080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没有就填写无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5" name="直接连接符 86056"/>
            <p:cNvSpPr/>
            <p:nvPr/>
          </p:nvSpPr>
          <p:spPr>
            <a:xfrm flipV="1">
              <a:off x="3492360" y="692640"/>
              <a:ext cx="792000" cy="288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206" name="组合 86078"/>
          <p:cNvGrpSpPr/>
          <p:nvPr/>
        </p:nvGrpSpPr>
        <p:grpSpPr>
          <a:xfrm>
            <a:off x="284040" y="333360"/>
            <a:ext cx="3927600" cy="1008000"/>
            <a:chOff x="284040" y="333360"/>
            <a:chExt cx="3927600" cy="1008000"/>
          </a:xfrm>
        </p:grpSpPr>
        <p:grpSp>
          <p:nvGrpSpPr>
            <p:cNvPr id="207" name="组合 86077"/>
            <p:cNvGrpSpPr/>
            <p:nvPr/>
          </p:nvGrpSpPr>
          <p:grpSpPr>
            <a:xfrm>
              <a:off x="1835280" y="836640"/>
              <a:ext cx="865080" cy="504720"/>
              <a:chOff x="1835280" y="836640"/>
              <a:chExt cx="865080" cy="504720"/>
            </a:xfrm>
          </p:grpSpPr>
          <p:sp>
            <p:nvSpPr>
              <p:cNvPr id="208" name="直接连接符 86062"/>
              <p:cNvSpPr/>
              <p:nvPr/>
            </p:nvSpPr>
            <p:spPr>
              <a:xfrm flipV="1">
                <a:off x="1835280" y="836640"/>
                <a:ext cx="0" cy="2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09" name="直接连接符 86063"/>
              <p:cNvSpPr/>
              <p:nvPr/>
            </p:nvSpPr>
            <p:spPr>
              <a:xfrm flipV="1">
                <a:off x="2700360" y="907920"/>
                <a:ext cx="0" cy="43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10" name="圆角矩形 86064"/>
            <p:cNvSpPr/>
            <p:nvPr/>
          </p:nvSpPr>
          <p:spPr>
            <a:xfrm>
              <a:off x="284040" y="333360"/>
              <a:ext cx="3927600" cy="4316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姓名、出生日期应和高考档案一致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211" name="组合 86067"/>
          <p:cNvGrpSpPr/>
          <p:nvPr/>
        </p:nvGrpSpPr>
        <p:grpSpPr>
          <a:xfrm>
            <a:off x="2050920" y="1484280"/>
            <a:ext cx="2376360" cy="432000"/>
            <a:chOff x="2050920" y="1484280"/>
            <a:chExt cx="2376360" cy="432000"/>
          </a:xfrm>
        </p:grpSpPr>
        <p:sp>
          <p:nvSpPr>
            <p:cNvPr id="212" name="圆角矩形 86068"/>
            <p:cNvSpPr/>
            <p:nvPr/>
          </p:nvSpPr>
          <p:spPr>
            <a:xfrm>
              <a:off x="2782800" y="1484280"/>
              <a:ext cx="1644480" cy="34524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90000"/>
              </a:srgbClr>
            </a:solidFill>
            <a:ln w="28440">
              <a:solidFill>
                <a:srgbClr val="80cb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填写到省市县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13" name="直接连接符 86069"/>
            <p:cNvSpPr/>
            <p:nvPr/>
          </p:nvSpPr>
          <p:spPr>
            <a:xfrm flipV="1">
              <a:off x="2050920" y="1700280"/>
              <a:ext cx="670320" cy="216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214" name="组合 86085"/>
          <p:cNvGrpSpPr/>
          <p:nvPr/>
        </p:nvGrpSpPr>
        <p:grpSpPr>
          <a:xfrm>
            <a:off x="4351320" y="1125360"/>
            <a:ext cx="2308320" cy="360720"/>
            <a:chOff x="4351320" y="1125360"/>
            <a:chExt cx="2308320" cy="360720"/>
          </a:xfrm>
        </p:grpSpPr>
        <p:sp>
          <p:nvSpPr>
            <p:cNvPr id="215" name="直接连接符 86036"/>
            <p:cNvSpPr/>
            <p:nvPr/>
          </p:nvSpPr>
          <p:spPr>
            <a:xfrm flipV="1">
              <a:off x="4351320" y="1267920"/>
              <a:ext cx="800280" cy="1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216" name="组合 86083"/>
            <p:cNvGrpSpPr/>
            <p:nvPr/>
          </p:nvGrpSpPr>
          <p:grpSpPr>
            <a:xfrm>
              <a:off x="5292720" y="1125360"/>
              <a:ext cx="1366920" cy="360720"/>
              <a:chOff x="5292720" y="1125360"/>
              <a:chExt cx="1366920" cy="360720"/>
            </a:xfrm>
          </p:grpSpPr>
          <p:sp>
            <p:nvSpPr>
              <p:cNvPr id="217" name="圆角矩形 86080"/>
              <p:cNvSpPr/>
              <p:nvPr/>
            </p:nvSpPr>
            <p:spPr>
              <a:xfrm>
                <a:off x="5292720" y="1125360"/>
                <a:ext cx="1366920" cy="36072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90000"/>
                </a:srgbClr>
              </a:solidFill>
              <a:ln w="28440">
                <a:solidFill>
                  <a:srgbClr val="80cb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18" name="文本框 86081"/>
              <p:cNvSpPr/>
              <p:nvPr/>
            </p:nvSpPr>
            <p:spPr>
              <a:xfrm>
                <a:off x="5364000" y="1125360"/>
                <a:ext cx="115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</a:rPr>
                  <a:t>一寸彩照</a:t>
                </a:r>
                <a:endParaRPr b="0" lang="en-US" sz="16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圆角矩形 87046"/>
          <p:cNvSpPr/>
          <p:nvPr/>
        </p:nvSpPr>
        <p:spPr>
          <a:xfrm>
            <a:off x="5435640" y="1197000"/>
            <a:ext cx="3529080" cy="532764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5327640"/>
              <a:gd name="textAreaBottom" fmla="*/ 5155560 h 5327640"/>
            </a:gdLst>
            <a:ahLst/>
            <a:rect l="textAreaLeft" t="textAreaTop" r="textAreaRight" b="textAreaBottom"/>
            <a:pathLst>
              <a:path w="21600" h="32607">
                <a:moveTo>
                  <a:pt x="3600" y="0"/>
                </a:moveTo>
                <a:arcTo wR="3600" hR="3600" stAng="16200000" swAng="-5400000"/>
                <a:lnTo>
                  <a:pt x="0" y="29007"/>
                </a:lnTo>
                <a:arcTo wR="3600" hR="3600" stAng="10800000" swAng="-5400000"/>
                <a:lnTo>
                  <a:pt x="18000" y="32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0" name="文本框 99"/>
          <p:cNvSpPr/>
          <p:nvPr/>
        </p:nvSpPr>
        <p:spPr>
          <a:xfrm>
            <a:off x="5580000" y="1413000"/>
            <a:ext cx="338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家庭成员：</a:t>
            </a:r>
            <a:r>
              <a:rPr b="1" lang="zh-CN" sz="2000" spc="-1" strike="noStrike">
                <a:solidFill>
                  <a:srgbClr val="060606"/>
                </a:solidFill>
                <a:latin typeface="仿宋_GB2312"/>
                <a:ea typeface="仿宋_GB2312"/>
              </a:rPr>
              <a:t>直系亲属（父母、兄弟、姐妹等）及其他生活在一起，经济上互相依赖的成员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政治面貌</a:t>
            </a:r>
            <a:r>
              <a:rPr b="1" lang="zh-CN" sz="2000" spc="-1" strike="noStrike">
                <a:solidFill>
                  <a:srgbClr val="060606"/>
                </a:solidFill>
                <a:latin typeface="仿宋_GB2312"/>
                <a:ea typeface="仿宋_GB2312"/>
              </a:rPr>
              <a:t>：党员、团员（父母的政治面貌不能填团员）或群众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社会关系：</a:t>
            </a:r>
            <a:r>
              <a:rPr b="1" lang="zh-CN" sz="2000" spc="-1" strike="noStrike">
                <a:solidFill>
                  <a:srgbClr val="060606"/>
                </a:solidFill>
                <a:latin typeface="仿宋_GB2312"/>
                <a:ea typeface="仿宋_GB2312"/>
              </a:rPr>
              <a:t>对本人影响较大、关系亲密的亲属（一般是父母的兄弟姐妹，如：舅舅、大伯等）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现工作单位、职务要填写清楚，不可空缺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21" name="图片 87045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5113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88072"/>
          <p:cNvSpPr/>
          <p:nvPr/>
        </p:nvSpPr>
        <p:spPr>
          <a:xfrm>
            <a:off x="755640" y="3933720"/>
            <a:ext cx="7848720" cy="2519640"/>
          </a:xfrm>
          <a:prstGeom prst="roundRect">
            <a:avLst>
              <a:gd name="adj" fmla="val 16667"/>
            </a:avLst>
          </a:prstGeom>
          <a:solidFill>
            <a:srgbClr val="ffcc99">
              <a:alpha val="90000"/>
            </a:srgbClr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23" name="图片 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432480" cy="28195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4" name="文本框 2"/>
          <p:cNvSpPr/>
          <p:nvPr/>
        </p:nvSpPr>
        <p:spPr>
          <a:xfrm>
            <a:off x="1763640" y="1905120"/>
            <a:ext cx="57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9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 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某省某市某小学            班主任姓名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5" name="文本框 3"/>
          <p:cNvSpPr/>
          <p:nvPr/>
        </p:nvSpPr>
        <p:spPr>
          <a:xfrm>
            <a:off x="1895400" y="2239920"/>
            <a:ext cx="56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9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某省某市某中学            班主任姓名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6" name="文本框 5"/>
          <p:cNvSpPr/>
          <p:nvPr/>
        </p:nvSpPr>
        <p:spPr>
          <a:xfrm>
            <a:off x="1895400" y="2603520"/>
            <a:ext cx="56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9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***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某省某市某高中            班主任姓名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7" name="文本框 6"/>
          <p:cNvSpPr/>
          <p:nvPr/>
        </p:nvSpPr>
        <p:spPr>
          <a:xfrm>
            <a:off x="1908000" y="2997360"/>
            <a:ext cx="56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202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9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—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至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武昌首义学院            辅导员姓名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文本框 7"/>
          <p:cNvSpPr/>
          <p:nvPr/>
        </p:nvSpPr>
        <p:spPr>
          <a:xfrm>
            <a:off x="755640" y="4076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【注意】</a:t>
            </a:r>
            <a:r>
              <a:rPr b="0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6060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、本人学历及社会经历自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小学</a:t>
            </a: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时写起；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6060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6060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、学历经历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时间顺序</a:t>
            </a: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填写，年月要衔接；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6060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60606"/>
                </a:solidFill>
                <a:latin typeface="Arial"/>
                <a:ea typeface="宋体"/>
              </a:rPr>
              <a:t>、中途间断学习和工作的时间也要填写（如：   留级、转学、休学、辍学、复读等）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下箭头 10"/>
          <p:cNvSpPr/>
          <p:nvPr/>
        </p:nvSpPr>
        <p:spPr>
          <a:xfrm>
            <a:off x="5578560" y="1917720"/>
            <a:ext cx="144360" cy="12952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80cb35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" descr="111.png"/>
          <p:cNvPicPr/>
          <p:nvPr/>
        </p:nvPicPr>
        <p:blipFill>
          <a:blip r:embed="rId1"/>
          <a:stretch/>
        </p:blipFill>
        <p:spPr>
          <a:xfrm>
            <a:off x="500040" y="7858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云形标注 4"/>
          <p:cNvSpPr/>
          <p:nvPr/>
        </p:nvSpPr>
        <p:spPr>
          <a:xfrm>
            <a:off x="5292720" y="476280"/>
            <a:ext cx="3095640" cy="194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2" name="椭圆 7"/>
          <p:cNvSpPr/>
          <p:nvPr/>
        </p:nvSpPr>
        <p:spPr>
          <a:xfrm>
            <a:off x="3429000" y="4643280"/>
            <a:ext cx="1297080" cy="432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云形标注 8"/>
          <p:cNvSpPr/>
          <p:nvPr/>
        </p:nvSpPr>
        <p:spPr>
          <a:xfrm>
            <a:off x="5651640" y="2852640"/>
            <a:ext cx="2881080" cy="17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99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云形标注 9"/>
          <p:cNvSpPr/>
          <p:nvPr/>
        </p:nvSpPr>
        <p:spPr>
          <a:xfrm>
            <a:off x="5740560" y="4857840"/>
            <a:ext cx="3403440" cy="177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5" name="虚尾箭头 11"/>
          <p:cNvSpPr/>
          <p:nvPr/>
        </p:nvSpPr>
        <p:spPr>
          <a:xfrm>
            <a:off x="3419640" y="1484280"/>
            <a:ext cx="1800000" cy="282600"/>
          </a:xfrm>
          <a:custGeom>
            <a:avLst/>
            <a:gdLst/>
            <a:ahLst/>
            <a:rect l="l" t="t" r="r" b="b"/>
            <a:pathLst>
              <a:path w="1800225" h="282575">
                <a:moveTo>
                  <a:pt x="0" y="70643"/>
                </a:moveTo>
                <a:lnTo>
                  <a:pt x="8830" y="70643"/>
                </a:lnTo>
                <a:lnTo>
                  <a:pt x="8830" y="211931"/>
                </a:lnTo>
                <a:lnTo>
                  <a:pt x="0" y="211931"/>
                </a:lnTo>
                <a:close/>
                <a:moveTo>
                  <a:pt x="17660" y="70643"/>
                </a:moveTo>
                <a:lnTo>
                  <a:pt x="35321" y="70643"/>
                </a:lnTo>
                <a:lnTo>
                  <a:pt x="35321" y="211931"/>
                </a:lnTo>
                <a:lnTo>
                  <a:pt x="17660" y="211931"/>
                </a:lnTo>
                <a:close/>
                <a:moveTo>
                  <a:pt x="44152" y="70643"/>
                </a:moveTo>
                <a:lnTo>
                  <a:pt x="1658937" y="70643"/>
                </a:lnTo>
                <a:lnTo>
                  <a:pt x="1658937" y="0"/>
                </a:lnTo>
                <a:lnTo>
                  <a:pt x="1800225" y="141287"/>
                </a:lnTo>
                <a:lnTo>
                  <a:pt x="1658937" y="282575"/>
                </a:lnTo>
                <a:lnTo>
                  <a:pt x="1658937" y="211931"/>
                </a:lnTo>
                <a:lnTo>
                  <a:pt x="44152" y="211931"/>
                </a:lnTo>
                <a:close/>
              </a:path>
            </a:pathLst>
          </a:custGeom>
          <a:solidFill>
            <a:srgbClr val="df6844"/>
          </a:solidFill>
          <a:ln w="9360">
            <a:solidFill>
              <a:srgbClr val="7d7d7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6" name="虚尾箭头 12"/>
          <p:cNvSpPr/>
          <p:nvPr/>
        </p:nvSpPr>
        <p:spPr>
          <a:xfrm>
            <a:off x="3571920" y="5786280"/>
            <a:ext cx="2047680" cy="216000"/>
          </a:xfrm>
          <a:custGeom>
            <a:avLst/>
            <a:gdLst/>
            <a:ahLst/>
            <a:rect l="l" t="t" r="r" b="b"/>
            <a:pathLst>
              <a:path w="2047875" h="215900">
                <a:moveTo>
                  <a:pt x="0" y="53975"/>
                </a:moveTo>
                <a:lnTo>
                  <a:pt x="6746" y="53975"/>
                </a:lnTo>
                <a:lnTo>
                  <a:pt x="6746" y="161925"/>
                </a:lnTo>
                <a:lnTo>
                  <a:pt x="0" y="161925"/>
                </a:lnTo>
                <a:close/>
                <a:moveTo>
                  <a:pt x="13493" y="53975"/>
                </a:moveTo>
                <a:lnTo>
                  <a:pt x="26987" y="53975"/>
                </a:lnTo>
                <a:lnTo>
                  <a:pt x="26987" y="161925"/>
                </a:lnTo>
                <a:lnTo>
                  <a:pt x="13493" y="161925"/>
                </a:lnTo>
                <a:close/>
                <a:moveTo>
                  <a:pt x="33734" y="53975"/>
                </a:moveTo>
                <a:lnTo>
                  <a:pt x="1939925" y="53975"/>
                </a:lnTo>
                <a:lnTo>
                  <a:pt x="1939925" y="0"/>
                </a:lnTo>
                <a:lnTo>
                  <a:pt x="2047875" y="107950"/>
                </a:lnTo>
                <a:lnTo>
                  <a:pt x="1939925" y="215900"/>
                </a:lnTo>
                <a:lnTo>
                  <a:pt x="1939925" y="161925"/>
                </a:lnTo>
                <a:lnTo>
                  <a:pt x="33734" y="161925"/>
                </a:lnTo>
                <a:close/>
              </a:path>
            </a:pathLst>
          </a:custGeom>
          <a:solidFill>
            <a:srgbClr val="df6844"/>
          </a:solidFill>
          <a:ln w="9360">
            <a:solidFill>
              <a:srgbClr val="7d7d7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7" name="圆角右箭头 13"/>
          <p:cNvSpPr/>
          <p:nvPr/>
        </p:nvSpPr>
        <p:spPr>
          <a:xfrm>
            <a:off x="1500120" y="3357720"/>
            <a:ext cx="3965760" cy="1377720"/>
          </a:xfrm>
          <a:custGeom>
            <a:avLst/>
            <a:gdLst/>
            <a:ahLst/>
            <a:rect l="l" t="t" r="r" b="b"/>
            <a:pathLst>
              <a:path w="3965575" h="1377950">
                <a:moveTo>
                  <a:pt x="0" y="1377950"/>
                </a:moveTo>
                <a:lnTo>
                  <a:pt x="0" y="775096"/>
                </a:lnTo>
                <a:cubicBezTo>
                  <a:pt x="0" y="442149"/>
                  <a:pt x="269906" y="172243"/>
                  <a:pt x="602853" y="172243"/>
                </a:cubicBezTo>
                <a:lnTo>
                  <a:pt x="3621087" y="172243"/>
                </a:lnTo>
                <a:lnTo>
                  <a:pt x="3621087" y="0"/>
                </a:lnTo>
                <a:lnTo>
                  <a:pt x="3965575" y="344487"/>
                </a:lnTo>
                <a:lnTo>
                  <a:pt x="3621087" y="688975"/>
                </a:lnTo>
                <a:lnTo>
                  <a:pt x="3621087" y="516731"/>
                </a:lnTo>
                <a:lnTo>
                  <a:pt x="602853" y="516731"/>
                </a:lnTo>
                <a:cubicBezTo>
                  <a:pt x="460162" y="516731"/>
                  <a:pt x="344488" y="632405"/>
                  <a:pt x="344488" y="775096"/>
                </a:cubicBezTo>
                <a:lnTo>
                  <a:pt x="344487" y="1377950"/>
                </a:lnTo>
                <a:close/>
              </a:path>
            </a:pathLst>
          </a:custGeom>
          <a:solidFill>
            <a:srgbClr val="df6844"/>
          </a:solidFill>
          <a:ln w="255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8" name="文本框 6"/>
          <p:cNvSpPr/>
          <p:nvPr/>
        </p:nvSpPr>
        <p:spPr>
          <a:xfrm>
            <a:off x="5580000" y="981000"/>
            <a:ext cx="27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其他需要补充说明的问题有则如实填写，如没有，填写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9" name="文本框 89101"/>
          <p:cNvSpPr/>
          <p:nvPr/>
        </p:nvSpPr>
        <p:spPr>
          <a:xfrm>
            <a:off x="6156360" y="3284640"/>
            <a:ext cx="1944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填表人应由学生</a:t>
            </a:r>
            <a:r>
              <a:rPr b="1" lang="zh-CN" sz="1600" spc="-1" strike="noStrike">
                <a:solidFill>
                  <a:srgbClr val="ff0000"/>
                </a:solidFill>
                <a:latin typeface="黑体"/>
              </a:rPr>
              <a:t>本人手写签名，写明填表日期（公历）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0" name="文本框 89102"/>
          <p:cNvSpPr/>
          <p:nvPr/>
        </p:nvSpPr>
        <p:spPr>
          <a:xfrm>
            <a:off x="6084720" y="530064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黑体"/>
              </a:rPr>
              <a:t>审核后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学院意见一栏填写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该生情况属实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或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情况属实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并签名。盖各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学院</a:t>
            </a:r>
            <a:r>
              <a:rPr b="1" lang="zh-CN" sz="1600" spc="-1" strike="noStrike">
                <a:solidFill>
                  <a:srgbClr val="003366"/>
                </a:solidFill>
                <a:latin typeface="黑体"/>
              </a:rPr>
              <a:t>公章。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微软用户</dc:creator>
  <dc:description/>
  <dc:language>en-US</dc:language>
  <cp:lastModifiedBy>語言兿術</cp:lastModifiedBy>
  <dcterms:modified xsi:type="dcterms:W3CDTF">2021-11-03T01:43:23Z</dcterms:modified>
  <cp:revision>261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6CA4B50D90A47ED8E2466BC6A041097</vt:lpwstr>
  </property>
  <property fmtid="{D5CDD505-2E9C-101B-9397-08002B2CF9AE}" pid="3" name="KSOProductBuildVer">
    <vt:lpwstr>2052-11.1.0.10938</vt:lpwstr>
  </property>
</Properties>
</file>